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C4D-F4CB-43CB-9E4F-72B51C49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A0D4-5B85-4CF5-BCED-3599F237D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3A64-9752-4655-9D08-431E5072A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D4EF-A172-4B21-8131-63DB6EBB9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7268-84E5-4EFF-9351-10844F9E0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8190-E998-4FF5-AD8B-1B968A4A2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DC70-C182-4FEC-8C54-98199A8C0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AE2-1C8D-48A4-966B-071FFBF6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02E-21BA-47FA-A99A-390662CF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5E2-BA21-42A0-B1EA-0C7F5D62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039-F6C1-41F9-BBA3-176D7192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802-7630-48C1-A3DE-0248DFD3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D6F-86E8-480D-9725-6C10E4F6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E73-860D-4919-9FF9-C9ADC9E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E59-8CDD-43A7-A8C0-E4CB599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369-1549-4FDC-9148-641EA3DD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536-6B2F-4747-A8B4-199009A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0C9-1944-468B-BFF7-5835009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2B8-24A2-46F6-B7CD-3993EC4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49F5-CB1B-40FE-A6A6-1405E25F4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ulie Libarkin, Nicole LaDue: IN-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 Dr. Duncan Sibley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YLLABUS is posted on ANGEL – READ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YBRID! Lectures are ONLINE. Activities for one hour in each week I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for completing activities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omework: TWO types on ANG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CTURE: Due weekly BEFORE each class meeting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LASS: Due weekly three days after class - SUNDAYS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ams: Two in-class exams and 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 &amp; Solid: precipitation, surface water, ground water, clouds; Gas: atmo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2" name="Picture 4" descr="FIGURESCIRCACTIVITY.png"/>
          <p:cNvPicPr/>
          <p:nvPr/>
        </p:nvPicPr>
        <p:blipFill>
          <a:blip r:embed="rId1"/>
          <a:srcRect l="7001" t="0" r="0" b="9332"/>
          <a:stretch/>
        </p:blipFill>
        <p:spPr>
          <a:xfrm>
            <a:off x="1066680" y="990720"/>
            <a:ext cx="7010640" cy="5126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3058920" y="50292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512160" y="17524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82960" y="23623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919880" y="53341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765440" y="175248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058560" y="541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2296800" y="63961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Grou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585960" y="4495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e7"/>
                </a:solidFill>
                <a:latin typeface="Arial"/>
                <a:ea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588840" y="2666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e7"/>
                </a:solidFill>
                <a:latin typeface="Arial"/>
                <a:ea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1074240" y="54100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e7"/>
                </a:solidFill>
                <a:latin typeface="Arial"/>
                <a:ea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683720" y="2133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e7"/>
                </a:solidFill>
                <a:latin typeface="Arial"/>
                <a:ea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20:20:21Z</dcterms:created>
  <dc:creator>Julie Libarkin</dc:creator>
  <dc:description/>
  <dc:language>en-US</dc:language>
  <cp:lastModifiedBy>Nicole LaDue</cp:lastModifiedBy>
  <dcterms:modified xsi:type="dcterms:W3CDTF">2011-01-21T01:04:28Z</dcterms:modified>
  <cp:revision>303</cp:revision>
  <dc:subject/>
  <dc:title>PowerPoint Presentation</dc:title>
</cp:coreProperties>
</file>